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16C-E60F-4C45-96E1-319637DD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ABF4-E371-4079-8C33-CB9EDB45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C7A-377A-44CB-B476-B4A12FF2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61E-C31B-42E8-A0A9-57BD1403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C925-DE94-4E3A-B8E8-AB8CD842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B671-70A0-43B2-BFAE-C1D6A350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4CB1-411A-49F8-92AE-1288C7D1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0DF1-E24B-4CB6-AAA8-D6BBE0C9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C369-3F71-40C1-A842-A529A48A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EA7F-2161-408D-AC4A-5C3E8CBF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8639-7932-4C85-ABE3-C8B8D501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B88-4AFF-4F87-A04C-0837C5E2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EDC7-F8F7-41C5-9A6D-EA609F9A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75BE-2892-4E28-AD1A-416D9DFB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A862-BF89-4EAE-8421-920C6331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4150-4760-435D-983B-E569991B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93DF-1704-4AFB-8961-5411AF55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03A-6F5E-4E7E-9783-0E15E688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370-2154-4F8A-AB08-D906B661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5BC-A78B-4EBD-8B9F-DD25400F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9D7-7CDE-4A53-A149-706C99FF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95B-C894-40A6-82D1-20F5189E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202-9A04-4BE6-8ED0-DF5E165C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9B0E-7269-45C8-8C1A-9C00E3FB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1DE3-AA79-4C59-BAF7-D3372FB736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FBDE-AC31-4D91-990A-C83010DD8A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«А.П.Чехов. Слово о писателе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втор: Чупрова Анастасия Васильевна, студентка 4 курса филологического факультета КГПИ, г. Сыктывкар, 2010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Основополагающий вопрос проек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то создавал классическую литератур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Проблемные вопросы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огда родился А.П.Чехов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де родился Антон Павлович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какой семье вырос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ак учился Антоша в гимназии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Чем увлекался в гимназические годы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огда он впервые начал писать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ак называются первые произведения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акими псевдонимами подписывал свои произведения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Представление результатов исследования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уклет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ото-репортаж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чинен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ворческое задан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сцениров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Мы будем изучать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жизнь и творчество Антона Павловича Чехо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Распределение по группам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3000" y="1981080"/>
          <a:ext cx="7772400" cy="2978280"/>
        </p:xfrm>
        <a:graphic>
          <a:graphicData uri="http://schemas.openxmlformats.org/drawingml/2006/table">
            <a:tbl>
              <a:tblPr/>
              <a:tblGrid>
                <a:gridCol w="798480"/>
                <a:gridCol w="3429000"/>
                <a:gridCol w="3544920"/>
              </a:tblGrid>
              <a:tr h="49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ма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тство и семья А.П.Чех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а и увле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вые произведения и псевдони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Продолжительность проекта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 неделя: 4 уро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Этапы проведения проекта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ыбор т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ормулировка т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иск информ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амостоятельная работа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щита проек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Информационные ресурсы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ебник Коровиной, 5 класс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урнал «Литература В школе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www.my-chekhov.r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ilibrary.ru/bio/chekhov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www.abc-people.com/data/chehov/bio1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13T04:59:3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